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0D6A-BF7A-402A-83BA-67234317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F4AA-85E7-4059-8ED7-198F6D48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F513-BCBA-4E2E-BFC2-B771A282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68F6-4518-448A-8DCA-56886A1B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95AF-6B32-42F3-A7DC-E2924409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C28F-883B-49FF-86C2-F3290C0C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1D29-D795-4110-914C-213C4C1E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0687-390F-4BD5-96E4-27AE9477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1F7E-DE87-4BD1-9225-9D9C6428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DE4F-D943-4209-987A-5B6914E0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7C39-2DE7-4262-8F07-A31F0688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AC74-FC4C-4991-8CC4-01C14DEC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F3CA-D906-49A1-BD40-7D62A4B3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E2CA-E4F2-44ED-B2A8-2F280FBF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19DA-C727-4B3C-A872-CFCF467F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BEB3-6621-46BA-B946-B82D2CD6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4AF4-DF86-4428-9927-66247359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CAE3-B493-45C2-9296-B3A6F7BE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F496-6E97-495F-9589-C66C7DD5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984-000E-4299-B876-F58F4D8B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0CB-2A91-4819-82D2-8DF41361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2A4E-B1D4-40A5-A733-6E1222DA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B862-C831-47FE-B3BD-99283EC6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61B7-2BD5-4E58-83B7-6A6E6AA0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F871-8AA3-43AA-86BC-4105C5582B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EAEC-47B7-4F9A-94B4-FFE4BE6A42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16280" y="669960"/>
            <a:ext cx="5940360" cy="5518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742000" y="3068640"/>
            <a:ext cx="179280" cy="179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81640" y="4915080"/>
            <a:ext cx="179640" cy="179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57720" y="4915080"/>
            <a:ext cx="179280" cy="179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4527720" y="1268280"/>
            <a:ext cx="179280" cy="1796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72000" y="1808280"/>
            <a:ext cx="179640" cy="179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46280" y="1943280"/>
            <a:ext cx="179280" cy="179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37000" y="2798640"/>
            <a:ext cx="179280" cy="1796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72000" y="3924360"/>
            <a:ext cx="179280" cy="179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81280" y="6173640"/>
            <a:ext cx="41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Źródło: http://nauczyciel.wsipnet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06640" y="998640"/>
            <a:ext cx="5757840" cy="4317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51280" y="2386080"/>
            <a:ext cx="5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27720" y="1892160"/>
            <a:ext cx="5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76640" y="1936800"/>
            <a:ext cx="5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1640" y="3871800"/>
            <a:ext cx="5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1280" y="4186080"/>
            <a:ext cx="5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2432160"/>
            <a:ext cx="5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81640" y="3646440"/>
            <a:ext cx="5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97360" y="3332160"/>
            <a:ext cx="5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46280" y="5815080"/>
            <a:ext cx="65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kty oznaczam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użymi literami alfab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7360" y="5364000"/>
            <a:ext cx="41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Źródło: http://ro.com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flipV="1">
            <a:off x="1646280" y="2214360"/>
            <a:ext cx="4635360" cy="2384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32360" y="189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2276640" y="684000"/>
            <a:ext cx="5805360" cy="1035000"/>
          </a:xfrm>
          <a:prstGeom prst="line">
            <a:avLst/>
          </a:prstGeom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720" y="13143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467000" y="1719360"/>
            <a:ext cx="4725720" cy="1349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32360" y="14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07000" y="2933640"/>
            <a:ext cx="3014640" cy="144000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3080" y="387828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76280" y="5184720"/>
            <a:ext cx="71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e oznaczam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łymi literami alfab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YBRANE WŁAŚCIWOŚCI PROSTE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376280" y="1537920"/>
            <a:ext cx="7156440" cy="1125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32000" y="1763640"/>
            <a:ext cx="4861080" cy="765360"/>
          </a:xfrm>
          <a:prstGeom prst="line">
            <a:avLst/>
          </a:prstGeom>
          <a:ln w="1584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627360" y="1854360"/>
            <a:ext cx="2879640" cy="449280"/>
          </a:xfrm>
          <a:prstGeom prst="line">
            <a:avLst/>
          </a:prstGeom>
          <a:ln w="1584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16280" y="2708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46640" y="1943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67000" y="23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32720" y="1808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0" y="12240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36640" y="324468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każdej prostej należ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ele punk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57360" y="3789360"/>
            <a:ext cx="6975360" cy="112572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4103640"/>
            <a:ext cx="3059280" cy="495360"/>
          </a:xfrm>
          <a:prstGeom prst="line">
            <a:avLst/>
          </a:prstGeom>
          <a:ln w="15840">
            <a:solidFill>
              <a:srgbClr val="99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22720" y="414972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464328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11280" y="5094360"/>
            <a:ext cx="67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zez dwa różne punkty przechodzi dokładni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edna pr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85920" y="5634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a n wyznaczona jest przez punkty K i L i oznaczmy symbolem KL i czytamy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sta K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07360" y="459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1646280" y="1133280"/>
            <a:ext cx="6570720" cy="3060360"/>
          </a:xfrm>
          <a:prstGeom prst="line">
            <a:avLst/>
          </a:prstGeom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67000" y="1763640"/>
            <a:ext cx="6435720" cy="2700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357720" y="458280"/>
            <a:ext cx="2384280" cy="41403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458640"/>
            <a:ext cx="2114640" cy="4500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6640" y="414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7000" y="3682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67720" y="954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07360" y="405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80920" y="5454720"/>
            <a:ext cx="765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zez jeden punkt przechodzi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ieskończenie wiele prost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76640" y="30621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1106640" y="1584000"/>
            <a:ext cx="7380000" cy="2158920"/>
          </a:xfrm>
          <a:prstGeom prst="line">
            <a:avLst/>
          </a:prstGeom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93080" y="1314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457360" y="1537920"/>
            <a:ext cx="6164280" cy="1800360"/>
          </a:xfrm>
          <a:prstGeom prst="line">
            <a:avLst/>
          </a:prstGeom>
          <a:ln w="1584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97000" y="3429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16280" y="4419720"/>
            <a:ext cx="58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nkt A podzielił prostą m 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wie półpro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16280" y="5003640"/>
            <a:ext cx="59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nkt A jest początkiem każdej z półprost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22360" y="1494000"/>
            <a:ext cx="6929640" cy="32400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82000" y="4284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2000" y="1989000"/>
            <a:ext cx="3914640" cy="1844640"/>
          </a:xfrm>
          <a:prstGeom prst="line">
            <a:avLst/>
          </a:prstGeom>
          <a:ln w="15840">
            <a:solidFill>
              <a:srgbClr val="99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22360" y="207972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92720" y="387828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16280" y="4554360"/>
            <a:ext cx="4049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ółprosta F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 początku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punkcie F i przechodząca przez punkt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20:26Z</dcterms:modified>
  <cp:revision>17</cp:revision>
  <dc:subject/>
  <dc:title>Slajd 1</dc:title>
</cp:coreProperties>
</file>